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094-3BBC-48EE-A2E0-BD742F73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595-636F-4C7F-A1B2-6519D518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7D5-657C-4C37-991E-CF255CA3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4C7-BDB3-48C3-8953-05653AB0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369-477B-4E19-BB65-57B265EF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D096-E98C-482F-A4E9-F5319599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7BD-F1F0-495A-A066-667C82A6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C7C-E634-4EEB-BA71-8578C69C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0A8-5BD7-4C40-81D2-87D6277F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E75E-86AC-4236-9D7F-B882D725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B21-CACF-4356-AC43-EF056054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A36-BF72-4A73-BCB6-4236B0E0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B61E-4572-40F8-A3B1-6D87767F7943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http://www.winnet8.eu/" TargetMode="External"/><Relationship Id="rId7" Type="http://schemas.openxmlformats.org/officeDocument/2006/relationships/hyperlink" Target="http://www.winneteurope.org/" TargetMode="External"/><Relationship Id="rId8" Type="http://schemas.openxmlformats.org/officeDocument/2006/relationships/hyperlink" Target="http://www.winnet.se/" TargetMode="Externa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mailto:Maria.von.schantz@tillvaxtverket.se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sp>
        <p:nvSpPr>
          <p:cNvPr id="43" name="Rektangel 8"/>
          <p:cNvSpPr/>
          <p:nvPr/>
        </p:nvSpPr>
        <p:spPr>
          <a:xfrm>
            <a:off x="1547640" y="2924280"/>
            <a:ext cx="52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2235240" y="2646360"/>
            <a:ext cx="456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VÄLKOMM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Winnet 8 Spridningssemina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16 december 2011 Europahuset Stockho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110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111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112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ktangel 2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vå tematiska workshops, med studiebesöken som utgångspunkt, genomfördes i Italien, 29-30 nov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n forsknings workshop genomfördes i  Finland,15 -16 of  March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117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118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119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ktangel 4"/>
          <p:cNvSpPr/>
          <p:nvPr/>
        </p:nvSpPr>
        <p:spPr>
          <a:xfrm>
            <a:off x="2286000" y="21366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ODUK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9 Regionala handlingsplaner (STRUFO) NU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örbättrad politik för lokal och regional utveck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uide med goda exemp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olicy Rekommendationer som kommer att påverka  EU's nästa strukturfondsperiod  2014, sammanhållningspolitiken och EU 2020 Strat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124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125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126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ktangel 2"/>
          <p:cNvSpPr/>
          <p:nvPr/>
        </p:nvSpPr>
        <p:spPr>
          <a:xfrm>
            <a:off x="2286000" y="18288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9 regionala Round Tables i 8 länder under april och maj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4 Europeiska rundabordssamtal i norra, södra, östra och västra zonen maj - augusti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eltagande in DG, Regios MS, Högnivå grupp jämställdhet 18 mars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Mini hearing i EU Parlamentet 12 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lutkonferens i Grekland 12--14 september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eminarium i Bryssel 10 november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131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133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ktangel 4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www.winnet8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www.winneteurop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www.winnet.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138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140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ktangel 2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net 8 Handbok - Goda exem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kt 2"/>
          <p:cNvGraphicFramePr/>
          <p:nvPr/>
        </p:nvGraphicFramePr>
        <p:xfrm>
          <a:off x="2484360" y="476280"/>
          <a:ext cx="3775320" cy="56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76280"/>
                    <a:ext cx="37753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148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150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ktangel 2"/>
          <p:cNvSpPr/>
          <p:nvPr/>
        </p:nvSpPr>
        <p:spPr>
          <a:xfrm>
            <a:off x="2712960" y="324468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Winnet 8 Policy rekommendati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Logga"/>
          <p:cNvPicPr/>
          <p:nvPr/>
        </p:nvPicPr>
        <p:blipFill>
          <a:blip r:embed="rId1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153" name="Bildobjekt 1" descr=""/>
          <p:cNvPicPr/>
          <p:nvPr/>
        </p:nvPicPr>
        <p:blipFill>
          <a:blip r:embed="rId2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154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kt 2"/>
          <p:cNvGraphicFramePr/>
          <p:nvPr/>
        </p:nvGraphicFramePr>
        <p:xfrm>
          <a:off x="2409840" y="190440"/>
          <a:ext cx="4324320" cy="647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k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09840" y="190440"/>
                    <a:ext cx="432432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160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161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162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166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167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168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ktangel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Winnet Center of Excellence/Forskarnätv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ystematiserad verksamhets- och teoriutveckling kring genus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 regional tillväxt- och innovationspoliti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Testas i Sverige och i Östersjöområd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sp>
        <p:nvSpPr>
          <p:cNvPr id="50" name="Rektangel 8"/>
          <p:cNvSpPr/>
          <p:nvPr/>
        </p:nvSpPr>
        <p:spPr>
          <a:xfrm>
            <a:off x="1547640" y="2924280"/>
            <a:ext cx="52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2216160" y="2646360"/>
            <a:ext cx="54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Britt-Marie S Torsten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Verksamhetsledare Winnet Sve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nsvarig för kommunikation och spridning Winnet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54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173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175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ktangel 2"/>
          <p:cNvSpPr/>
          <p:nvPr/>
        </p:nvSpPr>
        <p:spPr>
          <a:xfrm>
            <a:off x="2286000" y="310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Genusforskare med gedigen kompetens om resurscentra och våra verksamhetsområd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180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181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182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ktangel 2"/>
          <p:cNvSpPr/>
          <p:nvPr/>
        </p:nvSpPr>
        <p:spPr>
          <a:xfrm>
            <a:off x="2050920" y="198900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ntreprenörskap och innovativa miljö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Kompetensförsörjning och ökat arbetskraftsut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illgängligh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trategiskt gränsöverskridande samarb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Landsbygdsutveck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187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188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189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ktangel 2"/>
          <p:cNvSpPr/>
          <p:nvPr/>
        </p:nvSpPr>
        <p:spPr>
          <a:xfrm>
            <a:off x="2286000" y="17208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Center of Excellence/Forskarnätv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Kunskaps och kompetensbas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om   entreprenörskap och inno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egelbundet 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kunskapsutbyte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mellan forskare och R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ystematiserad verksamhets- och teoriutveckling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kring genus i regional tillväxtpolitik och innovationspoli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194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196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ktangel 2"/>
          <p:cNvSpPr/>
          <p:nvPr/>
        </p:nvSpPr>
        <p:spPr>
          <a:xfrm>
            <a:off x="2286000" y="21366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K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Malin Lindberg,  Luleå Tekniska Universi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nsvarig Winnet Sve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Pia Ramirez-Må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pia.ramirez-maard@winnetsverige.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201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202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203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ktangel 1"/>
          <p:cNvSpPr/>
          <p:nvPr/>
        </p:nvSpPr>
        <p:spPr>
          <a:xfrm>
            <a:off x="2286000" y="29671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Winnet8 x 8 prioriteringar</a:t>
            </a:r>
            <a:br>
              <a:rPr sz="1800"/>
            </a:b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Jämfört med förslag till Strukturfondernas förord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ex huvudte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208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209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210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ktangel 1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Maria von Schant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nhetsche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illväxtve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215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216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217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ktangel 1"/>
          <p:cNvSpPr/>
          <p:nvPr/>
        </p:nvSpPr>
        <p:spPr>
          <a:xfrm>
            <a:off x="2286000" y="130500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1 Ramar och må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2 Programplanering och genomfö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3 Fördelning av finansiering och finansi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cit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4 Statistik och indikat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5 Delaktighet och partnersk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6 Kartläggning och utvä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222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223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224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ktangel 2"/>
          <p:cNvSpPr/>
          <p:nvPr/>
        </p:nvSpPr>
        <p:spPr>
          <a:xfrm>
            <a:off x="2286000" y="102888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75% kvinnor och män i arbete år 2020 med betoning på jämställdhet p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rbetsmarkna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u strategi för jämställdhet mellan kvinnor och män 2010-2015 när det gä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75% målet och samstämmigh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tt underlätta för kvinnor att komma in arbetsmarknaden och nå ick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raditionella yr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SF förordningen COM (2011) 607 final, står det att fonderna ska stödja investeringar i  ”jämställdhet mellan arbete och privatliv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229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231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ktangel 1"/>
          <p:cNvSpPr/>
          <p:nvPr/>
        </p:nvSpPr>
        <p:spPr>
          <a:xfrm>
            <a:off x="2286000" y="17208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2   Gender Budg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 Strukturfonderna för att främja jämställdhet, analysera effekterna av fonderna och bedöma i vilken utsträckning resurserna fördelas på jämställda eller icke jämställda sä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te nämnt i något av försl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236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237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238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ktangel 1"/>
          <p:cNvSpPr/>
          <p:nvPr/>
        </p:nvSpPr>
        <p:spPr>
          <a:xfrm>
            <a:off x="2286000" y="19526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3  Data och indikatorer uppdelade på kö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Kontrollera framst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Jämförelser utifrån könssegregerade data och Jämställdhetsindex ( EU:s institute for Gender Equali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Mål och indikatorer ska delas upp efter kö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SF COM (2011) 607 final stå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lla data ska delas upp efter kön” inte nämnt i de övriga försl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sp>
        <p:nvSpPr>
          <p:cNvPr id="57" name="Rektangel 8"/>
          <p:cNvSpPr/>
          <p:nvPr/>
        </p:nvSpPr>
        <p:spPr>
          <a:xfrm>
            <a:off x="1547640" y="2924280"/>
            <a:ext cx="52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2577960" y="2359080"/>
            <a:ext cx="364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Januari 2010 - December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Kapitaliseringsprojekt Interreg I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otal budget: 2 356 778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61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243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244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245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ktangel 1"/>
          <p:cNvSpPr/>
          <p:nvPr/>
        </p:nvSpPr>
        <p:spPr>
          <a:xfrm>
            <a:off x="2233440" y="155736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enusperspektivet i operativa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perativa program inkluderas av analys av villkor för kvinnor och män. Hur jämställdheten mellan könen ska främjas genom hela programperio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uropean territorial cooperation goal COM (2011)611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kludera en beskrivning av dessa bidrag till främjandet av jämställdhet och vilka åtgärder vidtagits  för att försäkra integrationen av genusperspektivet i de opertativa programmen och verksamh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te nämnt i de andra försl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250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252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ktangel 1"/>
          <p:cNvSpPr/>
          <p:nvPr/>
        </p:nvSpPr>
        <p:spPr>
          <a:xfrm>
            <a:off x="2170080" y="14382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5 Dubbelt tillvägagångssä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ör jämställdhet i strukturfondernas verksamheter, i nationella och regionala operativa programmen för att säkerställa en hållbar ekonomisk tillväxt och socialt sammanh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SF förordn. COM(2011)607 final nämns behovet av att kombinera ”mainstreaming” tillvägagångssätt, specifika åtgärder för att främja jämställdhet och icke diskrimin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amtidigt försäkra sig om att specifika åtgärder tas för att främja jämställdh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te nämnt i de andra försla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257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258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259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ktangel 2"/>
          <p:cNvSpPr/>
          <p:nvPr/>
        </p:nvSpPr>
        <p:spPr>
          <a:xfrm>
            <a:off x="2286000" y="1438200"/>
            <a:ext cx="4572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Särskild finansiering och målinriktade åtgä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För positiva åtgärder (jämställdhet)    riktade program, budgetavsättningar o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Strategiska utlysningar av  projekt. Särskilda åtgärder: förbättra kvinnors tillgång till arbete, utveckling arbete-karriär.             Minskad vertikal och horisontell könssegregering på arbetsmarknaden i utbildning, företagande, innovation, forskning, grönare ekonomi, förstärka                       infrastrukturen i vardagslivet och tjänster för at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Kunna förena yrkes och privat                  li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ESF förordn COM (2011) 6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Näms behovet att kombinera                  robust ”mainstreaming” tillvägagångssätt, specifika åtgärder för att främja jämställdhet och icke diskrimin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Beakta genusperspektivet i alla dimensioner av programmet och vidta specifika åtgärder för att främja jämställdh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alibri"/>
              </a:rPr>
              <a:t>Inte nämnt i de andra försl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264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266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ktangel 1"/>
          <p:cNvSpPr/>
          <p:nvPr/>
        </p:nvSpPr>
        <p:spPr>
          <a:xfrm>
            <a:off x="2124000" y="170028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terregionalt flaggskepp för jämställdh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laggskepp för jämställdhet och interregional plattform för samarbete som omfattar genussegregerad statistik,,komparativa analyser, forskning utbyte av erfarenheter och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get av förslagen nämner ett flaggskepp utan European Territorial Coperation Goal COM (2011) 611 final  belyser vikten av att ”främja jämställdhet och jämställda möjligheter över gränser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271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272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273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ktangel 1"/>
          <p:cNvSpPr/>
          <p:nvPr/>
        </p:nvSpPr>
        <p:spPr>
          <a:xfrm>
            <a:off x="2233440" y="146196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artnerskap med sakkunskap om jämställdh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amverka med kunskap om jämställdhet exv. RC och andra organisatio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konomiska resurser till forskning, information, utbildning etc för beslutsfattande org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SF förordn COM (2011) 607 fi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ppmuntrar adekvat deltagande av och tillgång för icke statliga org. Till åtgärder som stöds av ESF när det rör social integration, jämställdhet och lika möjligh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278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279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280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ktangel 1"/>
          <p:cNvSpPr/>
          <p:nvPr/>
        </p:nvSpPr>
        <p:spPr>
          <a:xfrm>
            <a:off x="2233440" y="155736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ammanfattningsv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amar och må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U förelägger medlemsstaterna att främja jämställdh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amstämmighet/överensstämmelse mellan Sammanhållningspolitiken och Strategin för jämställdhet mellan kvinnor och mä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ogramplanering och genomförand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Jämställdhet o Strukturfondernas genomförande så att man försäkrar sog om hållbar ekonomisk tillväxt och social sammanhåll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285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286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287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ktangel 1"/>
          <p:cNvSpPr/>
          <p:nvPr/>
        </p:nvSpPr>
        <p:spPr>
          <a:xfrm>
            <a:off x="2286000" y="17208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ördelning av finansiering och finansiella incita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enusbudget som obligation i de nationella strategiska planerna och regionala operativa progra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tatistik och indikat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eferera till EU jämställdhetsindex som ska utformas av European Institute for Gender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OP inkludera analys av könsuppdelad statistik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292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293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294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ktangel 2"/>
          <p:cNvSpPr/>
          <p:nvPr/>
        </p:nvSpPr>
        <p:spPr>
          <a:xfrm>
            <a:off x="2286000" y="19969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elaktighet och partnersk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Lika deltagande mellan män och kvinnor hos myndigheter, ledning, arbetsmarknad. Besluts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artnerskap på nationell, regional, lokal eller andra nivåer måste ha ett effektivt samarbete med sakkunskap och experter på jämställdh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299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300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301" name="Rektangel 3"/>
          <p:cNvSpPr/>
          <p:nvPr/>
        </p:nvSpPr>
        <p:spPr>
          <a:xfrm>
            <a:off x="2233440" y="1700280"/>
            <a:ext cx="457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ktangel 2"/>
          <p:cNvSpPr/>
          <p:nvPr/>
        </p:nvSpPr>
        <p:spPr>
          <a:xfrm>
            <a:off x="2286000" y="199692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ktangel 1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ack för att ni lyssn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Maria.von.schantz@tillvaxtverket.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el: 08-68194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ild 1" descr=""/>
          <p:cNvPicPr/>
          <p:nvPr/>
        </p:nvPicPr>
        <p:blipFill>
          <a:blip r:embed="rId1"/>
          <a:stretch/>
        </p:blipFill>
        <p:spPr>
          <a:xfrm>
            <a:off x="500040" y="5600880"/>
            <a:ext cx="1692360" cy="1114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440160" y="5743440"/>
            <a:ext cx="2131920" cy="90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Europa karta"/>
          <p:cNvPicPr/>
          <p:nvPr/>
        </p:nvPicPr>
        <p:blipFill>
          <a:blip r:embed="rId3"/>
          <a:stretch/>
        </p:blipFill>
        <p:spPr>
          <a:xfrm>
            <a:off x="1285920" y="71280"/>
            <a:ext cx="5786280" cy="5305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4"/>
          <a:stretch/>
        </p:blipFill>
        <p:spPr>
          <a:xfrm>
            <a:off x="6953400" y="5357880"/>
            <a:ext cx="1619280" cy="1328760"/>
          </a:xfrm>
          <a:prstGeom prst="rect">
            <a:avLst/>
          </a:prstGeom>
          <a:ln w="0">
            <a:noFill/>
          </a:ln>
        </p:spPr>
      </p:pic>
      <p:sp>
        <p:nvSpPr>
          <p:cNvPr id="66" name="Bildtext 2 11"/>
          <p:cNvSpPr/>
          <p:nvPr/>
        </p:nvSpPr>
        <p:spPr>
          <a:xfrm>
            <a:off x="7143840" y="1428840"/>
            <a:ext cx="914400" cy="6127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2250"/>
              <a:gd name="adj6" fmla="val -191444"/>
            </a:avLst>
          </a:prstGeom>
          <a:solidFill>
            <a:srgbClr val="4f81bd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Fi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Bildtext 2 12"/>
          <p:cNvSpPr/>
          <p:nvPr/>
        </p:nvSpPr>
        <p:spPr>
          <a:xfrm>
            <a:off x="6786720" y="357120"/>
            <a:ext cx="1143000" cy="6127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70421"/>
              <a:gd name="adj6" fmla="val -198310"/>
            </a:avLst>
          </a:prstGeom>
          <a:solidFill>
            <a:srgbClr val="4f81bd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Bildtext 2 13"/>
          <p:cNvSpPr/>
          <p:nvPr/>
        </p:nvSpPr>
        <p:spPr>
          <a:xfrm>
            <a:off x="7072200" y="4286160"/>
            <a:ext cx="1143000" cy="6127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3490"/>
              <a:gd name="adj6" fmla="val -164578"/>
            </a:avLst>
          </a:prstGeom>
          <a:solidFill>
            <a:srgbClr val="4f81bd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Gre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Bildtext 2 14"/>
          <p:cNvSpPr/>
          <p:nvPr/>
        </p:nvSpPr>
        <p:spPr>
          <a:xfrm>
            <a:off x="357120" y="2714760"/>
            <a:ext cx="1143000" cy="612720"/>
          </a:xfrm>
          <a:prstGeom prst="borderCallout2">
            <a:avLst>
              <a:gd name="adj1" fmla="val 18750"/>
              <a:gd name="adj2" fmla="val -8333"/>
              <a:gd name="adj3" fmla="val 114541"/>
              <a:gd name="adj4" fmla="val 52587"/>
              <a:gd name="adj5" fmla="val 226111"/>
              <a:gd name="adj6" fmla="val 93328"/>
            </a:avLst>
          </a:prstGeom>
          <a:solidFill>
            <a:srgbClr val="4f81bd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Bildtext 2 18"/>
          <p:cNvSpPr/>
          <p:nvPr/>
        </p:nvSpPr>
        <p:spPr>
          <a:xfrm>
            <a:off x="714240" y="1143000"/>
            <a:ext cx="1143000" cy="612720"/>
          </a:xfrm>
          <a:prstGeom prst="borderCallout2">
            <a:avLst>
              <a:gd name="adj1" fmla="val 18750"/>
              <a:gd name="adj2" fmla="val -8333"/>
              <a:gd name="adj3" fmla="val 152412"/>
              <a:gd name="adj4" fmla="val 53777"/>
              <a:gd name="adj5" fmla="val 139175"/>
              <a:gd name="adj6" fmla="val 179527"/>
            </a:avLst>
          </a:prstGeom>
          <a:solidFill>
            <a:srgbClr val="4f81bd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Scot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Bildtext 2 19"/>
          <p:cNvSpPr/>
          <p:nvPr/>
        </p:nvSpPr>
        <p:spPr>
          <a:xfrm>
            <a:off x="1857240" y="4786200"/>
            <a:ext cx="1143000" cy="612720"/>
          </a:xfrm>
          <a:prstGeom prst="borderCallout2">
            <a:avLst>
              <a:gd name="adj1" fmla="val 18750"/>
              <a:gd name="adj2" fmla="val -8333"/>
              <a:gd name="adj3" fmla="val 16523"/>
              <a:gd name="adj4" fmla="val 166018"/>
              <a:gd name="adj5" fmla="val -164069"/>
              <a:gd name="adj6" fmla="val 188472"/>
            </a:avLst>
          </a:prstGeom>
          <a:solidFill>
            <a:srgbClr val="4f81bd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Bildtext 2 20"/>
          <p:cNvSpPr/>
          <p:nvPr/>
        </p:nvSpPr>
        <p:spPr>
          <a:xfrm>
            <a:off x="7164360" y="2349360"/>
            <a:ext cx="914400" cy="613080"/>
          </a:xfrm>
          <a:prstGeom prst="borderCallout2">
            <a:avLst>
              <a:gd name="adj1" fmla="val 18750"/>
              <a:gd name="adj2" fmla="val -8333"/>
              <a:gd name="adj3" fmla="val 63754"/>
              <a:gd name="adj4" fmla="val -26189"/>
              <a:gd name="adj5" fmla="val 30472"/>
              <a:gd name="adj6" fmla="val -278412"/>
            </a:avLst>
          </a:prstGeom>
          <a:solidFill>
            <a:srgbClr val="4f81bd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Po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Bildtext 2 21"/>
          <p:cNvSpPr/>
          <p:nvPr/>
        </p:nvSpPr>
        <p:spPr>
          <a:xfrm>
            <a:off x="7358040" y="3500280"/>
            <a:ext cx="1143000" cy="613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0273"/>
              <a:gd name="adj6" fmla="val -159800"/>
            </a:avLst>
          </a:prstGeom>
          <a:solidFill>
            <a:srgbClr val="4f81bd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ihandsfigur 22"/>
          <p:cNvSpPr/>
          <p:nvPr/>
        </p:nvSpPr>
        <p:spPr>
          <a:xfrm>
            <a:off x="5948280" y="4005360"/>
            <a:ext cx="57240" cy="396720"/>
          </a:xfrm>
          <a:custGeom>
            <a:avLst/>
            <a:gdLst/>
            <a:ahLst/>
            <a:rect l="l" t="t" r="r" b="b"/>
            <a:pathLst>
              <a:path w="56521" h="395785">
                <a:moveTo>
                  <a:pt x="56521" y="395785"/>
                </a:moveTo>
                <a:cubicBezTo>
                  <a:pt x="47422" y="382137"/>
                  <a:pt x="31260" y="371118"/>
                  <a:pt x="29225" y="354842"/>
                </a:cubicBezTo>
                <a:cubicBezTo>
                  <a:pt x="26231" y="330887"/>
                  <a:pt x="47608" y="272398"/>
                  <a:pt x="56521" y="245660"/>
                </a:cubicBezTo>
                <a:cubicBezTo>
                  <a:pt x="51972" y="222914"/>
                  <a:pt x="48976" y="199800"/>
                  <a:pt x="42873" y="177421"/>
                </a:cubicBezTo>
                <a:cubicBezTo>
                  <a:pt x="31477" y="135636"/>
                  <a:pt x="8324" y="85704"/>
                  <a:pt x="1930" y="40944"/>
                </a:cubicBezTo>
                <a:cubicBezTo>
                  <a:pt x="0" y="27433"/>
                  <a:pt x="1930" y="13648"/>
                  <a:pt x="1930" y="0"/>
                </a:cubicBezTo>
              </a:path>
            </a:pathLst>
          </a:cu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sp>
        <p:nvSpPr>
          <p:cNvPr id="77" name="Rektangel 8"/>
          <p:cNvSpPr/>
          <p:nvPr/>
        </p:nvSpPr>
        <p:spPr>
          <a:xfrm>
            <a:off x="1547640" y="2924280"/>
            <a:ext cx="52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79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80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81" name="Rektangel 2"/>
          <p:cNvSpPr/>
          <p:nvPr/>
        </p:nvSpPr>
        <p:spPr>
          <a:xfrm>
            <a:off x="2286000" y="14446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 u="sng">
                <a:solidFill>
                  <a:srgbClr val="000000"/>
                </a:solidFill>
                <a:uFillTx/>
                <a:latin typeface="Arial"/>
              </a:rPr>
              <a:t>Sverige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Älvdalens Komm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illväxtve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Winnet 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egion Dala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egion Gävleb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Winnet Gävleb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 u="sng">
                <a:solidFill>
                  <a:srgbClr val="000000"/>
                </a:solidFill>
                <a:uFillTx/>
                <a:latin typeface="Arial"/>
              </a:rPr>
              <a:t>Fi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egional Council of South Ostroboth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niversity of Helsinki, Ruralia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 u="sng">
                <a:solidFill>
                  <a:srgbClr val="000000"/>
                </a:solidFill>
                <a:uFillTx/>
                <a:latin typeface="Arial"/>
              </a:rPr>
              <a:t>Po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Gryfice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niversity of Szcze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Municipality of Leb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sp>
        <p:nvSpPr>
          <p:cNvPr id="84" name="Rektangel 8"/>
          <p:cNvSpPr/>
          <p:nvPr/>
        </p:nvSpPr>
        <p:spPr>
          <a:xfrm>
            <a:off x="1547640" y="2924280"/>
            <a:ext cx="52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86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88" name="Rektangel 3"/>
          <p:cNvSpPr/>
          <p:nvPr/>
        </p:nvSpPr>
        <p:spPr>
          <a:xfrm>
            <a:off x="2286000" y="158256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 u="sng">
                <a:solidFill>
                  <a:srgbClr val="000000"/>
                </a:solidFill>
                <a:uFillTx/>
                <a:latin typeface="Arial"/>
              </a:rPr>
              <a:t>Bulgarien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Municipality of Plov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 u="sng">
                <a:solidFill>
                  <a:srgbClr val="000000"/>
                </a:solidFill>
                <a:uFillTx/>
                <a:latin typeface="Arial"/>
              </a:rPr>
              <a:t>Ital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rovince of Ve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 u="sng">
                <a:solidFill>
                  <a:srgbClr val="000000"/>
                </a:solidFill>
                <a:uFillTx/>
                <a:latin typeface="Arial"/>
              </a:rPr>
              <a:t>Grekland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egion of Western Macedo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WRC Ergani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 u="sng">
                <a:solidFill>
                  <a:srgbClr val="000000"/>
                </a:solidFill>
                <a:uFillTx/>
                <a:latin typeface="Arial"/>
              </a:rPr>
              <a:t>Storbritta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dinburgh Chamber of Commerce, Scot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 u="sng">
                <a:solidFill>
                  <a:srgbClr val="000000"/>
                </a:solidFill>
                <a:uFillTx/>
                <a:latin typeface="Arial"/>
              </a:rPr>
              <a:t>Portugal</a:t>
            </a: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CDR Alente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niversity of Év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sp>
        <p:nvSpPr>
          <p:cNvPr id="91" name="Rektangel 8"/>
          <p:cNvSpPr/>
          <p:nvPr/>
        </p:nvSpPr>
        <p:spPr>
          <a:xfrm>
            <a:off x="1763640" y="1557360"/>
            <a:ext cx="5286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Fokusområden för att påverka politik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Låg sysselsättningsnivå bland kvin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orisontellt segregerade arbetsmarkn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Bristen på kvinnor som entreprenö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Bristen på kvinnor inom Innovation och teknologi – Resurscentra som en met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93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94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98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100" name="Rektangel 2"/>
          <p:cNvSpPr/>
          <p:nvPr/>
        </p:nvSpPr>
        <p:spPr>
          <a:xfrm>
            <a:off x="2286000" y="17208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Multi Actor Groups (MAGs) har etablerats, i samtliga 9 regioner, med quadruple helix-representation 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nalyserat de  regionala förutsättningarna, identifierat hinder och möjligh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dentifierat goda exempel från de övriga 8 regionerna, inom de prioriterade områdena , som kan överföras till den egna reg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nalyserat goda exempel och utformat en handlingsplan (STRUF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859280" y="5694480"/>
            <a:ext cx="2131920" cy="900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7812000" y="5823000"/>
            <a:ext cx="938160" cy="771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Logga"/>
          <p:cNvPicPr/>
          <p:nvPr/>
        </p:nvPicPr>
        <p:blipFill>
          <a:blip r:embed="rId3"/>
          <a:stretch/>
        </p:blipFill>
        <p:spPr>
          <a:xfrm>
            <a:off x="2771640" y="5369040"/>
            <a:ext cx="1944720" cy="1415880"/>
          </a:xfrm>
          <a:prstGeom prst="rect">
            <a:avLst/>
          </a:prstGeom>
          <a:ln w="0">
            <a:noFill/>
          </a:ln>
        </p:spPr>
      </p:pic>
      <p:pic>
        <p:nvPicPr>
          <p:cNvPr id="104" name="Bildobjekt 7" descr=""/>
          <p:cNvPicPr/>
          <p:nvPr/>
        </p:nvPicPr>
        <p:blipFill>
          <a:blip r:embed="rId4"/>
          <a:stretch/>
        </p:blipFill>
        <p:spPr>
          <a:xfrm>
            <a:off x="250920" y="5729400"/>
            <a:ext cx="2149560" cy="838080"/>
          </a:xfrm>
          <a:prstGeom prst="rect">
            <a:avLst/>
          </a:prstGeom>
          <a:ln w="0">
            <a:noFill/>
          </a:ln>
        </p:spPr>
      </p:pic>
      <p:pic>
        <p:nvPicPr>
          <p:cNvPr id="105" name="Bildobjekt 1" descr=""/>
          <p:cNvPicPr/>
          <p:nvPr/>
        </p:nvPicPr>
        <p:blipFill>
          <a:blip r:embed="rId5"/>
          <a:stretch/>
        </p:blipFill>
        <p:spPr>
          <a:xfrm>
            <a:off x="2895480" y="476280"/>
            <a:ext cx="3248280" cy="961920"/>
          </a:xfrm>
          <a:prstGeom prst="rect">
            <a:avLst/>
          </a:prstGeom>
          <a:ln w="0">
            <a:noFill/>
          </a:ln>
        </p:spPr>
      </p:pic>
      <p:sp>
        <p:nvSpPr>
          <p:cNvPr id="106" name="Rektangel 3"/>
          <p:cNvSpPr/>
          <p:nvPr/>
        </p:nvSpPr>
        <p:spPr>
          <a:xfrm>
            <a:off x="2233440" y="1700280"/>
            <a:ext cx="457200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dentifiering av goda exempel – Studiebesö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Varje region tog emot MAG-gruppen från en region och besökte en annan region under september - november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apporter från besöken fungerade som input till nästa fas; work 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0:18:40Z</dcterms:created>
  <dc:creator>Karin</dc:creator>
  <dc:description/>
  <dc:language>en-US</dc:language>
  <cp:lastModifiedBy>packard bell</cp:lastModifiedBy>
  <dcterms:modified xsi:type="dcterms:W3CDTF">2011-12-16T14:21:22Z</dcterms:modified>
  <cp:revision>71</cp:revision>
  <dc:subject/>
  <dc:title>WINNET 8 January 2010-2011 Total budget: 2 356 778 euro</dc:title>
</cp:coreProperties>
</file>